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B046-4252-40DC-8651-537DEC7011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29F5-9FB8-4DB2-9BE8-88A53DBB2B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ук: Казачий хор,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0269-D53E-482D-9F35-008B4775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D17-1E0D-4796-8757-5ABB68A6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9B7-E43D-4787-BFBD-CDEB81E4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C94-E28E-4DDE-ABFA-C8A8DE6F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222-C995-4A7E-A731-9789542C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39C-18D0-493D-93A3-E590C32E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4EA-A2A7-49F7-A358-DDCF1190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38D-00E6-42B8-9DF0-18C902C0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CD4-1828-4D09-88CA-0CB67A05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0B8-BFA7-49EA-8E77-A7865EC6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94F-8295-4BB9-B614-385FC90F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FA3-8801-419B-8B1A-5B616925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7324-D12E-4712-9034-6C18FB5819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5076720" y="692280"/>
            <a:ext cx="3672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9640" y="3933720"/>
            <a:ext cx="41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flow41"/>
          <p:cNvPicPr/>
          <p:nvPr/>
        </p:nvPicPr>
        <p:blipFill>
          <a:blip r:embed="rId1"/>
          <a:stretch/>
        </p:blipFill>
        <p:spPr>
          <a:xfrm>
            <a:off x="468360" y="476280"/>
            <a:ext cx="835164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flow41"/>
          <p:cNvPicPr/>
          <p:nvPr/>
        </p:nvPicPr>
        <p:blipFill>
          <a:blip r:embed="rId2"/>
          <a:stretch/>
        </p:blipFill>
        <p:spPr>
          <a:xfrm>
            <a:off x="468360" y="5950080"/>
            <a:ext cx="8324640" cy="242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8265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8265"/>
                </a:solidFill>
                <a:latin typeface="Times New Roman"/>
              </a:rPr>
              <a:t>Проект</a:t>
            </a:r>
            <a:br>
              <a:rPr sz="4400"/>
            </a:br>
            <a:r>
              <a:rPr b="1" i="1" lang="ru-RU" sz="4400" spc="-1" strike="noStrike">
                <a:solidFill>
                  <a:srgbClr val="ff8265"/>
                </a:solidFill>
                <a:latin typeface="Times New Roman"/>
              </a:rPr>
              <a:t> «Свадебные обряды станицы Черноерковской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Georgia"/>
              </a:rPr>
              <a:t>Кубанская свадьб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flow41"/>
          <p:cNvPicPr/>
          <p:nvPr/>
        </p:nvPicPr>
        <p:blipFill>
          <a:blip r:embed="rId1"/>
          <a:stretch/>
        </p:blipFill>
        <p:spPr>
          <a:xfrm>
            <a:off x="468360" y="5950080"/>
            <a:ext cx="8324640" cy="24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Завгородние Аким Акимыч и Надежда"/>
          <p:cNvPicPr/>
          <p:nvPr/>
        </p:nvPicPr>
        <p:blipFill>
          <a:blip r:embed="rId2"/>
          <a:stretch/>
        </p:blipFill>
        <p:spPr>
          <a:xfrm>
            <a:off x="971640" y="1628640"/>
            <a:ext cx="6783120" cy="5007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танице Черноерковской после обеда поезд отправлялся выкупать невесту. По прибытию процессии жениха к дому молодой начиналась целая серия выкупов: выкупали ворота, вход в дом, место около невесты, приданое и т.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8265"/>
                </a:solidFill>
                <a:latin typeface="Times New Roman"/>
              </a:rPr>
              <a:t>Свадебный поез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Rectangle 3" descr=""/>
          <p:cNvPicPr/>
          <p:nvPr/>
        </p:nvPicPr>
        <p:blipFill>
          <a:blip r:embed="rId1"/>
          <a:stretch/>
        </p:blipFill>
        <p:spPr>
          <a:xfrm>
            <a:off x="1482840" y="1981080"/>
            <a:ext cx="617688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8265"/>
                </a:solidFill>
                <a:latin typeface="Times New Roman"/>
              </a:rPr>
              <a:t>Выку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Rectangle 3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4762440" cy="4218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лючительным аккордом второго дня было катание и купание родителей с уличными игрищами и ряженьем.  Действие пародировало свадьбу. Жениха и невесту изображали родители молодых.  Степень разыгранности сцены зависела от фантазии и настроения участников, однако всегда соблюдался примерно один сценарий. Для “молодых” готовили  “подводу”: украшали повозку цветами, лентами, ветками. В подводу впрягали  “лошадей”, которых изображали ряженые. Лошади время от времени останавливались, требовали напоить их. “Молодые” давали им горилку и погоняли батогами.  Родителей с шутками и песнями провозили по всей улице, старались выкачать в грязи и выкупать в водоеме, затем привозили домой, сушили и переодевали в новую одежд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8265"/>
                </a:solidFill>
                <a:latin typeface="Times New Roman"/>
              </a:rPr>
              <a:t>Ряженые на свадьб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rcRect l="27145" t="41784" r="17674" b="29349"/>
          <a:stretch/>
        </p:blipFill>
        <p:spPr>
          <a:xfrm>
            <a:off x="1835280" y="1773360"/>
            <a:ext cx="6408720" cy="4568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8265"/>
                </a:solidFill>
                <a:latin typeface="Times New Roman"/>
              </a:rPr>
              <a:t>Купание родит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Rectangle 3" descr=""/>
          <p:cNvPicPr/>
          <p:nvPr/>
        </p:nvPicPr>
        <p:blipFill>
          <a:blip r:embed="rId1"/>
          <a:stretch/>
        </p:blipFill>
        <p:spPr>
          <a:xfrm>
            <a:off x="685800" y="2073240"/>
            <a:ext cx="7772400" cy="3929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велось у нас в стан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ынче свадьбу отгуля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ловах не объясни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ером не описат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о, было, ох, весель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кануне торже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носились песнопень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сам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 до утр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Rectangle 3" descr=""/>
          <p:cNvPicPr/>
          <p:nvPr/>
        </p:nvPicPr>
        <p:blipFill>
          <a:blip r:embed="rId1"/>
          <a:stretch/>
        </p:blipFill>
        <p:spPr>
          <a:xfrm>
            <a:off x="4648320" y="2519280"/>
            <a:ext cx="3809880" cy="3036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65"/>
                </a:solidFill>
                <a:latin typeface="Georgia"/>
              </a:rPr>
              <a:t>Тот, кто не уважает обычаи своего на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65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ff8265"/>
                </a:solidFill>
                <a:latin typeface="Georgia"/>
              </a:rPr>
              <a:t>не хранит их в своем сердце, тот позорит                                                                                               не только свой народ, но прежде всего                                                                                                не уважает самого себя, свой род,                                                                     своих древних пред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2" descr="flow41"/>
          <p:cNvPicPr/>
          <p:nvPr/>
        </p:nvPicPr>
        <p:blipFill>
          <a:blip r:embed="rId1"/>
          <a:stretch/>
        </p:blipFill>
        <p:spPr>
          <a:xfrm>
            <a:off x="468360" y="5950080"/>
            <a:ext cx="8324640" cy="242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25586" t="57816" r="16834" b="11766"/>
          <a:stretch/>
        </p:blipFill>
        <p:spPr>
          <a:xfrm>
            <a:off x="4859280" y="263700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на… Запах цветущих весенних садов и золотого пшеничного поля, бескрайняя водная гладь лиманов, окружённых  таинственным тростником, изумрудная зелень рисовых чеков и золотой песок Азовского моря… Уникальная земля, на которой живут уникальные люди.  Заветный уголок родной Кубани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16 Дорожка 16.wma" descr=""/>
          <p:cNvPicPr/>
          <p:nvPr/>
        </p:nvPicPr>
        <p:blipFill>
          <a:blip r:embed="rId1"/>
          <a:stretch/>
        </p:blipFill>
        <p:spPr>
          <a:xfrm>
            <a:off x="845964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flow41"/>
          <p:cNvPicPr/>
          <p:nvPr/>
        </p:nvPicPr>
        <p:blipFill>
          <a:blip r:embed="rId2"/>
          <a:stretch/>
        </p:blipFill>
        <p:spPr>
          <a:xfrm>
            <a:off x="468360" y="5950080"/>
            <a:ext cx="8324640" cy="242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94"/>
          <p:cNvPicPr/>
          <p:nvPr/>
        </p:nvPicPr>
        <p:blipFill>
          <a:blip r:embed="rId3"/>
          <a:stretch/>
        </p:blipFill>
        <p:spPr>
          <a:xfrm>
            <a:off x="4648320" y="2619360"/>
            <a:ext cx="3809880" cy="283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95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65"/>
                </a:solidFill>
                <a:latin typeface="Times New Roman"/>
              </a:rPr>
              <a:t>Цель  рабо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ответить на поставленные вопросы, благодаря решению следующих задач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рассмотреть основные формы  кубанской  свадьбы на примере станицы Черноерковско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охарактеризовать содержание обрядов свадьб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рассмотреть сценарный план и особенности основных действующих лиц станичной  свадь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65"/>
                </a:solidFill>
                <a:latin typeface="Times New Roman"/>
              </a:rPr>
              <a:t>Объект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ния является свадебный обряд станицы Черноерковской  и обрядовая лекс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1" descr="flow41"/>
          <p:cNvPicPr/>
          <p:nvPr/>
        </p:nvPicPr>
        <p:blipFill>
          <a:blip r:embed="rId1"/>
          <a:stretch/>
        </p:blipFill>
        <p:spPr>
          <a:xfrm>
            <a:off x="468360" y="5950080"/>
            <a:ext cx="8324640" cy="242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5" name="_s1028"/>
          <p:cNvCxnSpPr>
            <a:stCxn id="66" idx="1"/>
            <a:endCxn id="67" idx="2"/>
          </p:cNvCxnSpPr>
          <p:nvPr/>
        </p:nvCxnSpPr>
        <p:spPr>
          <a:xfrm flipH="1" rot="10800000">
            <a:off x="2570760" y="1145520"/>
            <a:ext cx="76680" cy="4902840"/>
          </a:xfrm>
          <a:prstGeom prst="bentConnector4">
            <a:avLst>
              <a:gd name="adj1" fmla="val -298584"/>
              <a:gd name="adj2" fmla="val 54134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" name="_s1029"/>
          <p:cNvCxnSpPr>
            <a:stCxn id="69" idx="1"/>
            <a:endCxn id="67" idx="2"/>
          </p:cNvCxnSpPr>
          <p:nvPr/>
        </p:nvCxnSpPr>
        <p:spPr>
          <a:xfrm flipH="1" rot="10800000">
            <a:off x="1071360" y="1145520"/>
            <a:ext cx="1576800" cy="3404160"/>
          </a:xfrm>
          <a:prstGeom prst="bentConnector4">
            <a:avLst>
              <a:gd name="adj1" fmla="val -14478"/>
              <a:gd name="adj2" fmla="val 5597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_s1030"/>
          <p:cNvCxnSpPr>
            <a:stCxn id="71" idx="1"/>
            <a:endCxn id="67" idx="2"/>
          </p:cNvCxnSpPr>
          <p:nvPr/>
        </p:nvCxnSpPr>
        <p:spPr>
          <a:xfrm rot="10800000">
            <a:off x="2647080" y="1145520"/>
            <a:ext cx="210600" cy="2035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_s1031"/>
          <p:cNvCxnSpPr>
            <a:endCxn id="67" idx="2"/>
          </p:cNvCxnSpPr>
          <p:nvPr/>
        </p:nvCxnSpPr>
        <p:spPr>
          <a:xfrm flipH="1" rot="10800000">
            <a:off x="1999080" y="1145520"/>
            <a:ext cx="648360" cy="975240"/>
          </a:xfrm>
          <a:prstGeom prst="bentConnector4">
            <a:avLst>
              <a:gd name="adj1" fmla="val -35277"/>
              <a:gd name="adj2" fmla="val 7086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7" name="_s1032"/>
          <p:cNvSpPr/>
          <p:nvPr/>
        </p:nvSpPr>
        <p:spPr>
          <a:xfrm>
            <a:off x="179280" y="333360"/>
            <a:ext cx="4937400" cy="812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Arial"/>
              </a:rPr>
              <a:t>МЕТОДЫ ИССЛЕД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_s1033"/>
          <p:cNvGrpSpPr/>
          <p:nvPr/>
        </p:nvGrpSpPr>
        <p:grpSpPr>
          <a:xfrm>
            <a:off x="1878120" y="1590840"/>
            <a:ext cx="5181480" cy="1060200"/>
            <a:chOff x="1878120" y="1590840"/>
            <a:chExt cx="5181480" cy="1060200"/>
          </a:xfrm>
        </p:grpSpPr>
        <p:pic>
          <p:nvPicPr>
            <p:cNvPr id="74" name="_s1033" descr=""/>
            <p:cNvPicPr/>
            <p:nvPr/>
          </p:nvPicPr>
          <p:blipFill>
            <a:blip r:embed="rId1"/>
            <a:stretch/>
          </p:blipFill>
          <p:spPr>
            <a:xfrm>
              <a:off x="1878120" y="1590840"/>
              <a:ext cx="51814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039760" y="1754280"/>
              <a:ext cx="4857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b050"/>
                  </a:solidFill>
                  <a:latin typeface="Times New Roman"/>
                  <a:ea typeface="Arial"/>
                </a:rPr>
                <a:t>Анкетировани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_s1034"/>
          <p:cNvSpPr/>
          <p:nvPr/>
        </p:nvSpPr>
        <p:spPr>
          <a:xfrm>
            <a:off x="2857680" y="2773440"/>
            <a:ext cx="4929120" cy="814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5e500"/>
                </a:solidFill>
                <a:latin typeface="Times New Roman"/>
                <a:ea typeface="Arial"/>
              </a:rPr>
              <a:t>Интервь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_s1035"/>
          <p:cNvSpPr/>
          <p:nvPr/>
        </p:nvSpPr>
        <p:spPr>
          <a:xfrm>
            <a:off x="1071720" y="4143240"/>
            <a:ext cx="4579920" cy="812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9d9d9"/>
                </a:solidFill>
                <a:latin typeface="Times New Roman"/>
                <a:ea typeface="Arial"/>
              </a:rPr>
              <a:t>Анали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_s1036"/>
          <p:cNvSpPr/>
          <p:nvPr/>
        </p:nvSpPr>
        <p:spPr>
          <a:xfrm>
            <a:off x="2571840" y="5643720"/>
            <a:ext cx="4937040" cy="8110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ad99"/>
                </a:solidFill>
                <a:latin typeface="Times New Roman"/>
                <a:ea typeface="Arial"/>
              </a:rPr>
              <a:t>Обобщ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Семья – святыня брака. Никто не имеет права вмешиваться в жизнь семьи без ее просьбы. Семья – основа казачьего общества».   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Евдокия - жена Беличенко Егора Ивановича в детстве с родителями - копия"/>
          <p:cNvPicPr/>
          <p:nvPr/>
        </p:nvPicPr>
        <p:blipFill>
          <a:blip r:embed="rId1"/>
          <a:stretch/>
        </p:blipFill>
        <p:spPr>
          <a:xfrm>
            <a:off x="179280" y="260280"/>
            <a:ext cx="4376880" cy="5911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адебный обряд станицы Черноерковской имеет традиционную трехчастную структуру. Каждый фрагмент обряда отличается функциональным значением и временем прохождения. Обряд состоит из следующих элеме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вадебные действия (сватовство, договор, девичник и т.д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нь свадьбы (одевание невесты, выкуп, венчание и т.д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свадебные действия (завтрак молодых, повивание невесты и т.д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265"/>
                </a:solidFill>
                <a:latin typeface="Times New Roman"/>
              </a:rPr>
              <a:t>Предсвадебные обряд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танице Черноерковской на договоре родители жениха и невесты, а также старосты, участвовавшие в сватовстве, обговаривали организацию свадьбы. Очень строго соблюдалось, чтобы свадьбы не гуляли во время поста.  Присутствие старост на договоре было обязательным, так как они были главными распорядителями на свадьбе и должны быть в курсе всех решений, принятых  родителями. На договоре решали, когда будут гулять свадьбу, сколько будет приглашенных, испекут ли шишки родственники невесты, или жених будет одаривать гостей своими шишками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справа - Беличенко Егор Иванович с женой Евдокией и родственниками"/>
          <p:cNvPicPr/>
          <p:nvPr/>
        </p:nvPicPr>
        <p:blipFill>
          <a:blip r:embed="rId1"/>
          <a:stretch/>
        </p:blipFill>
        <p:spPr>
          <a:xfrm>
            <a:off x="179280" y="255600"/>
            <a:ext cx="8713800" cy="6294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ам. по ВР</cp:lastModifiedBy>
  <dcterms:modified xsi:type="dcterms:W3CDTF">2013-02-28T18:51:58Z</dcterms:modified>
  <cp:revision>101</cp:revision>
  <dc:subject/>
  <dc:title>PowerPoint Presentation</dc:title>
</cp:coreProperties>
</file>